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4D0F-F271-4E21-B88E-4F16A242BEBC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DEC-A703-4E6A-A2DA-EF14F3F9F20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139-10A4-4C8C-9385-B24E50DF561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8" descr=""/>
          <p:cNvPicPr/>
          <p:nvPr/>
        </p:nvPicPr>
        <p:blipFill>
          <a:blip r:embed="rId5"/>
          <a:stretch/>
        </p:blipFill>
        <p:spPr>
          <a:xfrm>
            <a:off x="11734920" y="92822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47" name="TextBox 1"/>
          <p:cNvSpPr/>
          <p:nvPr/>
        </p:nvSpPr>
        <p:spPr>
          <a:xfrm>
            <a:off x="4122360" y="923940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4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en Data Foundation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opendatafoundation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nited States Copyright Offi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ir access and 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f/fa/ESIP_module_data_use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ata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a/a2/DataShortCourseModule-DataRestrictionsV1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Handling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http://wiki.esipfed.org/images/6/66/DataShortCourseModule-HandlingSensitiveDataV1.pp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12:55Z</dcterms:modified>
  <cp:revision>87</cp:revision>
  <dc:subject/>
  <dc:title>ESIP Federation 101</dc:title>
</cp:coreProperties>
</file>